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514A-255C-41F0-8D93-63197437B9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емарксистская философия в СССР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860A-9B56-405A-8501-F28A0A1F91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оложительная философия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40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Истина как проблема онтолог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Тотальность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в охвате материала действительно-сти коррелирует с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истинность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оложительная философия предстаёт как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теория истины, опирающаяся на идею тотальности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(«единого»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на исходит из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первичного единства всего сущего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, позволяющего сделать соизмеримыми, принципиально способными к соотнесению все дискретности действи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Даже за случайным необходимо видеть тот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фон закономерности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, по отношению к которому случайное только и может быть определено как таково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сякая изменчивость апеллирует к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тождеству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, с позиции которого только и возможна длительность изменяющего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сякое непонимание вскрывает, по крайней мере,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возможность понимания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251F-336B-49F3-918D-380F5F3B31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оложитель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20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Истина как проблема онтолог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ложительная философия опирается на </a:t>
            </a:r>
            <a:r>
              <a:rPr b="1" lang="ru-RU" sz="1200" spc="-1" strike="noStrike">
                <a:solidFill>
                  <a:srgbClr val="00ffff"/>
                </a:solidFill>
                <a:latin typeface="Calibri"/>
              </a:rPr>
              <a:t>разум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в смысле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тотализирующей силы сознани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прони-кающей собою рассудок и чувственность,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креп-ляющей все формы и виды действительности в единое цел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Calibri"/>
              </a:rPr>
              <a:t>Понимание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(«уразумение») оказывается актом онтологически проясняющим,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ближающим структуру сознания с бытием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действительно-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скольку сознание лежит не вне действительно-сти, а внутри неё, то и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тделять его от действи-тельности иллюзорно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; разумное познание и по-нимание своей тотализацией снимает указанную иллюзию, обеспечивая свою истин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191D-E0B3-4C7D-B9AD-C1E250A0D8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Феноменологи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Беспредпосылочность феноме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сякое сущее (дискретность) может рассматри-ваться двояко: как элемент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редельной тоталь-ности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и как элемент одной из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убтотальностей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включённых в предельную тот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огда сущее рассматривается в виде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феномена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(т.е. элемента предельной тотальности), то пока-зателем этого будет ег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беспредпосылочность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т.е.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чевидность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не позволяющая нам помыс-лить феномен как-то инач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, наоборот, если нам удалось помыслить нечто в ег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нтуитивной очевидности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значит, мы конституировали его как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феномен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45C4-1784-4287-8952-5ECD707ACB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Феноменологи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Проекция сущего в тотально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отальное тесно связанно с интуитивно очевид-ны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еочевидность, «проблемность» сущего не есть свойство его, сохраняющееся во всех «установ-ках», а есть следствие некоторых из этих «уста-новок»; проблемность какой-нибудь мысли не присуща самой мысли абсолютно, а есть резуль-тат нефиксации некоторых элементов, без кото-рых эта мысль и оказывается проблемно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строить своеобразную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«проекцию» сущего в тотальном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это и значит осуществить </a:t>
            </a:r>
            <a:r>
              <a:rPr b="1" lang="ru-RU" sz="1200" spc="-1" strike="noStrike">
                <a:solidFill>
                  <a:srgbClr val="00ffff"/>
                </a:solidFill>
                <a:latin typeface="Calibri"/>
              </a:rPr>
              <a:t>εποχη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(феноменологическую редукци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ы не столько «очищаем» сущее от чего-то, сколько проецируем его в плоскость тотального, получая феном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8948-1F30-41AD-8A5D-C2CC3A662E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Феноменолог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Феномен как состояние-переход между частью и целы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Феномен – это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состояние-переход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(отношение) меж-ду частью и целым, между индивидуальным и то-тальны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и этом критерий очевидности перестаёт быть присущим только данному феномену, он является таковым лишь при апелляции к очевидности сово-купного цел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ам феномен предстаёт не изолированной, замкну-той в себе дискретностью, но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узлом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, к которому тя-нутся нити от всего цел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Такую структуру имеет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знак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Такова феноменология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«симпатического понимания»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между людьми, выражающаяся в «уразумении» сказанного други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Таково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герменевтическое понимание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, предполагающее проникновение в «энтелехию» предмета, его «душу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2212-F772-420E-81FB-AA8E0CDFF4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А.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Ф. Лосев (1893-198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нтичный космос и современная наука (19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Философия имени (19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иалектика художественной формы (19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узыка как предмет логики (19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иалектика числа у Плотина (192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ритика платонизма у Аристотеля (192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черки античного символизма и мифологии (193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иалектика мифа (193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рия античной эстетики (1963-199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нтичная философия истории (197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стетика Возрождения (1978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л. Соловьёв и его время (199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99B5-07FC-48C0-BB4E-E1F60CB323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А.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Ф. Лосев (1893-1988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Логико-смысловое конструир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логическое стано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имволиз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ервокатег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Эйдетическая» дефиниция миф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Конкретная» дефиниция миф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Мифы вокруг нас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19A1-1695-4190-B5AA-170AE4AAEE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Логико-смысловое конструиров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 основе философии Лосева –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етод логико-смыслового конструирования философского предм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ам философский предмет понимается в гуссер-лианском смысле как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«феномен сознания»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ffff"/>
                </a:solidFill>
                <a:latin typeface="Calibri"/>
              </a:rPr>
              <a:t>эйд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4860-3F5F-4E87-B03F-A9681F2BCF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Логико-смысловое конструиро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Такая установка позволяет делать предметом философ-ского рассмотрения самые разные сферы реальности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мея в виду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усмотрение их сущности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(в этом её отличие от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эмпиризма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о не превращая их в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понятие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(чисто спекулятивную, отвле-чённо-мыслительную реальность), т.е. сохраняя их конкрет-ную природу (в этом её отличие от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отвлечённой диалектики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Однако метод Лосева отличается и от феноменологии Гуссерля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 Гуссерлю, «усмотрение сущности» состоит исключитель-но в описании –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«феноменологической дескрипции»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смысло-вой структуры феномена как совокупности рядоположенных элемен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Лосеву же смысловая структура феномена виделась не статическим собранием элементов, но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живым их единств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Задачей философского метода он считал не просто дескри-бировать смысловую структуру в определённых категориях, но «одну категорию объяснить другой категорий, так, чтобы было видно, как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одна категория порождает другую, и все вместе – друг друга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C7D4-A6EC-4E17-AD40-3269A65BD4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Логико-смысловое конструиров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то – категориальная разработка не гегелевского понятия, а платоновско-гуссерлианского эйдоса, однако такой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эйдос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не «перепись» составных частей смысла, 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9F55-40AB-43E6-B49E-30F71A0E7D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емарксистская философия в СССР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Г.</a:t>
            </a: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Г. Шпет (1879-1937)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BDF3-CD61-4F33-8822-6A6C5C2371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Алогическое становл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Но эйдос – всё же объект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интеллектуальной интуи-ции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«без какого-либо намёка на субстанциальность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н наделяется множеством зрительных характерис-тик, но речь всегда идёт об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«умном» зрен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Что же до чувственной реальности – она остаётся для эйдоса всецело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иноприрод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днако для диалектического метода «иная приро-да» –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диалектическая противоположность данной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, и обе природы немедленно вовлекаются в диалекти-ческий процесс, в «диалектику одного и иного»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«одно» логически предполагает (в терминах диалектики – «самополагает») «иное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 оказывается с ним в отношении тождества и различия (диалектического «единства противоположностей»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следнее же, будучи единством, есть, тем самым, некая новая цельность («диалектический синтез»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65D5-2880-4956-89C4-C9881AF04B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логическое становл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дно, чтобы быть, должн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тличаться от иного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 Если нет иного, нет и одного. Стало быть одно полагает себя вместе со своим и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о одно не может быть только различно с иным. Оно, именно для того чтобы быть самим собой,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требует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иного и, следова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ельно, мыслится с ним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разу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 Если оно только отлично от иного – оно не имеет никакой границы и, следовательно, оно не есть оно. Но оно – оно, и, значит, оно не только отлично от иного, но и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тождественно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с н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днако как одно и иное тождественны? Это возможно только так, чт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дно</a:t>
            </a: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тановитс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тановление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и есть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интез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бытия и не-бытия, одного и и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A4A3-7BF7-4AD9-BDC3-6340759BF1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логическое становл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алее, как одно, соединившись со своим инобытием, дало становление, так становление, требуя, как и всё, для своего существования – своего инобытия и соединяясь с ним, даёт новую категорию –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тавшего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или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факта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который несёт на себе вышевыведенную триаду смыс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альнейшее сопряжение приводит к инаковост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ой характеристике уже самый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факт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сам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тав</a:t>
            </a:r>
            <a:r>
              <a:rPr b="1" lang="en-US" sz="1200" spc="-1" strike="noStrike">
                <a:solidFill>
                  <a:srgbClr val="ffff00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шее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; и, рассматривая все эти возможные смы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ловые судьбы становящегося факта, т.е. соот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ося осмысленный факт с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его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инобытием, т.е. с его возможными воплощениями, мы получаем уже не просто смысл, или эйдос факта, н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ыра</a:t>
            </a:r>
            <a:r>
              <a:rPr b="1" lang="en-US" sz="1200" spc="-1" strike="noStrike">
                <a:solidFill>
                  <a:srgbClr val="ffff00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женный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смысл факта,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ыраженную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его сущ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ость, ег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м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00ffff"/>
                </a:solidFill>
                <a:latin typeface="Calibri"/>
              </a:rPr>
              <a:t>Имя есть тождество триадного эйдоса с его фактическим инобытием.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22E2-9ADB-4F03-B095-F26A4E05C7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Алогическое становл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оисходящий таким образом диалектический пере-ход одного в двуединство одного и иного выходит за рамки формальной логики и обозначается осо-бым термином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«алогического становлен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Эйдос – самый благодарный объект для проведе-ния этого диалектического приём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н дан с такой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«фигурностью»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, что, собственно, уже почти чувствен, как нельзя лучше приспособлен для воспроизведения в чувственном как в своей инаковост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о и в соединении со своим инобытием эйдос не утрачивает своих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умных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свойство, и образовавшееся двуединство остаётся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смысловой картиной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олученный таким образом философский предмет – смысловая картина, выраженная в телесно-чувст-венном, совершенное двуединство умного и чувст-венного содержания есть не что иное, как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символ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3674-47EB-4B12-BA36-0548473298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Символиз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AA1B-2406-45B0-AB22-4B67C9BF25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ервокатегор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Диалектико-феноменологическое конструирование эйдосов и символов осуществляется посредством типовых формул, где по-разному комбинируются </a:t>
            </a:r>
            <a:r>
              <a:rPr b="1" lang="ru-RU" sz="2200" spc="-1" strike="noStrike">
                <a:solidFill>
                  <a:srgbClr val="ffff00"/>
                </a:solidFill>
                <a:latin typeface="Calibri"/>
              </a:rPr>
              <a:t>пять первокатегорий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Calibri"/>
              </a:rPr>
              <a:t>единичность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(одно, сущее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Calibri"/>
              </a:rPr>
              <a:t>покой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Calibri"/>
              </a:rPr>
              <a:t>движени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Calibri"/>
              </a:rPr>
              <a:t>тождество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Calibri"/>
              </a:rPr>
              <a:t>различ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Такое строительство из «унифицированных» блоков даёт лишь отвлечённую логическую схему, «скелет» предмета; всякий такой конструкт оказывается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0519-0455-48E5-8D4A-F4BEFD05F3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ервокатегор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Но его можно и нужно подвергнуть вторичному переосмыслению с точки зрения тех же первока-тегорий; тогда мы получим следующую группу категорий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собственно </a:t>
            </a:r>
            <a:r>
              <a:rPr b="1" lang="ru-RU" sz="2200" spc="-1" strike="noStrike">
                <a:solidFill>
                  <a:srgbClr val="00ffff"/>
                </a:solidFill>
                <a:latin typeface="Calibri"/>
              </a:rPr>
              <a:t>эйдос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ffff"/>
                </a:solidFill>
                <a:latin typeface="Calibri"/>
              </a:rPr>
              <a:t>топос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ffff"/>
                </a:solidFill>
                <a:latin typeface="Calibri"/>
              </a:rPr>
              <a:t>число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6E2A-8C96-42B9-BC5A-418EC5D3FC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Первокатегори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825A-D63C-46BD-8DA8-EC0729A09D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«Эйдетическая» дефиниция миф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ф есть определённый момент или стадия конст-руирования эйдоса, точнее – последняя, завершаю-щая стадия,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редел воплощённости эйдоса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днако схожим образом определяется и символ, ко-торый есть предельная воплощённость как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бле-чённость в и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личие мифа от символа состоит в том, что миф есть, кроме того, ещё и предельная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ыраженность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а она требует не просто воплощённости, н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оплощённости в живом и личном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этому в определении мифа участвует ещё одна категория –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нтеллигенци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или (само)со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3148-D360-4705-9BD1-79F2AC21FA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Эйдетическая» дефиниция миф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3E0D-86A8-40CB-A922-DC6D46868B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Г.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Г. Шпет (1879-1937)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Явление и смысл: Феноменология как основная наука и её проблемы (191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ервый опыт логики исторических наук (К истории рационализма XVIII века) (191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рия как проблема логики (191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ознание и его собственник (191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удрость или разум (191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Герменевтика и её проблемы (191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кептик и его душа (191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черк развития русской философии (192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стетические фрагменты (1922-192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нутренняя форма слова (19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ведение в этническую психологию (19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D59F-9D71-4478-92E9-01B9CB27E7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«Конкретная» дефиниция миф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скольку специфика мифа в том, что он  «уже не есть эйдос, он – и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бытие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» (точнее – чувственная и эмпирическая реальность), то исследовать миф – это не столько описать эйдос мифа среди других эйдосов, сколько описать сам миф как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«вещь» среди других вещ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строение конкретной дефиниции мифа отлича-ется от эйдетического конструирования и следу-ет более традиционной процедуре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оследова-тельных отграничений мифа от смежных, близ-ких явлений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E079-DFD1-477C-856E-14D86BC5CE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«Конкретная» дефиниция миф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ф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 вымысел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но логически необходимая категория сознания и бы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ф –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 идеальное бытие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но жизненно ощущаемая и творимая вещественная ре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ф –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 научное построение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но живое субъект-объектное взаимообщ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ф –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 метафизика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но чувственная действительность, хотя и отрешённая от обычного хода яв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ф –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 схема и аллегори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но симво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ф –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 поэзи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но возведение изолированных и абстрактно выделенных вещей в интуитивно-инстинктивную сферу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33ED-8571-4AA9-ADCD-11BC295698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«Конкретная» дефиниция миф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Миф есть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личностная форма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, предполагающа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амосознани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телесность 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сторичнос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Миф есть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история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. В истории различаются три слоя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«природно-вещественный»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– сами события и факты; это – действительность, ещё не просвещённая и не проработанная разумом, а, следовательно, строго говоря, ещё не действительность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общие структуры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исторического, концепции и схемы истории; это – действительность, уже осмысленная, но осмысленная извне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история как сознающее самоё себя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; здесь она выступает как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интеллигенция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, выражающая себ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Миф есть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чудо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– совпадение эмпирического бытия личности с её «идеальным заданием»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633D-17C4-4F0A-867C-C0F31A3290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Конкретная» дефиниция миф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E874-EB4C-44F4-8F4B-75C38B5B7E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«Мифы вокруг нас»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ф – всепроникающая стихия,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ущая всюду в человеке и вокруг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то – прирождённый человеку и социуму (хотя и не единственный для них)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пособ видения и толкования себя и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и этом, мифичность человеческого опыта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мманентна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а не привносима человеческой психи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F873-D780-4301-A620-C5DAF67392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«Мифы вокруг нас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Светлый миф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– Православ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Тёмный миф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– новоевропейское мировоззрение, господствующее, начиная с Возрождения, и включающе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ьютонианскую картину физического ми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атеиз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материализ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Коммунистический миф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отличается от новоевро-пейского мифа, прочно связанного с принципами и ценностями буржуазного обще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То, что пролетарский миф усваивает себе едва ли не все лозунги буржуазного мифа (в особенно-сти – атеизм) есть следствие его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непоследова-тельности и незрелости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0C21-1404-4224-9215-92B3C5EF5A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Г.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Г. Шпет (1879-1937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оложительная философ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оложительная и отрицательная философ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Критика отрицательной философ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Укоренённость в тотальнос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Рефлективность и интуи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Истина как проблема онтолог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Феноменолог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Беспредпосылочность феноме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оекция сущего в тотальн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Феномен как состояние-переход между частью и целы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8EC6-C068-438C-B86E-9002E46E81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Положительная философ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Положительная и отрицательная филосо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A092-BAD0-4131-A680-B44B6ED63F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оложительная философия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Критика отрицательной философ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 точки зрения отрицательной философии,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убъект и объект разделены пропастью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действительность же понимается либо как явление вещи в себе, либо как акт субъ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тика истины и процесса познания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граничивается рамками теории познани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; сама истина понимается не как имма-нентное, но как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трансцендентное согласование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между сужде-нием и вещью в себе, лежащей за пределами действи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 связи с этой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гетерономностью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возникает дилемма: или позна-ние согласуется с вещами, или вещи – с познанием (в положи-тельной философии даётся третье решение – самосогласова-ние в пределах единой действитель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еобходимость имеет своим источником не порядок и связи в предмете, н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бщеобязательность суждени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в конечном итоге – субъекта, утверждающего су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тика истинного, как ограниченная только рамками су-бъекта, предполагает строгое ограничение области истинного, за границами которой располагается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«иррациональное»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; в итоге развёртывание процесса познания не только не приближает, но всё более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удаляет понятия от действительности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сближая их с идеалами прагматически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E64C-0CBF-42DC-B738-00B4400723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оложитель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20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Укоренённость в тоталь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ложительная философия исходит из возмож-ности обоснования всякой предметности, она ве-рит в доказательность, в способность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одведе-ния всего сущего под некоторое основание, пре-вышающее обосновываем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то основание переходит в конечном итоге в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редельную полноту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действительность: всё оказывается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укоренённым в тотальности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совокупной действительности, выступающей единым и единственным основанием всего суще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7395-5737-4F75-B6FD-997E2EEFD2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оложитель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Рефлективность и интуиц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ешение проблемы действительности (т.е. пробле-мы положительного обоснования всего сущего), как и средства этого решения, есть также части дейст-вительности, в связи с чем положительная филосо-фия не может не быть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рефлектирующей в себя нау-кой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полагающей в качестве объектов своего об-основания сами осн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ходя этот путь до конца, положительная фило-софия может остановиться только на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нтуициях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непосредственно очевидных началах, предшеству-ющих всякому теоретическому зна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кусство движения в материале действительно-сти, при котором мы не выходим из интуитивного слоя, но движемся от одной непосредственной оче-видности к другой, – это и есть искусство методиче-ского проведения идей положительной философ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1DCA-3778-45F6-A812-CE9864A51E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оложитель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20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Истина как проблема онтолог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 истины – это проблема всей действитель-тельности, а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 только области знани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(как полагает отрицательная философ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 положительной философии оказывается невоз-можным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рядоположное рассмотрение реального и иллюзорного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так как нет ничего, кроме реальной действи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ллюзия возможно только внутри самой действи-тельности: иллюзорным оказывается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 содержа-ние иллюзии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а лишь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верные соотношени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его с другими областями действи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1857-C2F1-401C-B44B-8A19390F8C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0481-C509-4B7C-AFBC-A6C3C2938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796B-D608-47C0-9757-ACDFCB93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D7DF-6C4A-4DF5-AFEF-411836B8B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E724-8015-43D3-9EC2-BB3D03F59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005B-D412-41F9-A97A-12B20B46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1647-C217-4DE4-A0D0-EA5162DB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D6F2-DBD7-4DBF-8326-664AA6A4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A3ED-7489-4698-8438-0D4138F3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60CA-6459-4ACA-BB70-B07247F1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AAA5-BC61-47CF-B124-93DC2161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9DC6-43EA-4B23-9CAE-BB88154F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F21C-0EE0-4A7C-B32E-D9BA269D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4817-E534-4BA3-A4F0-229F4880FA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28400" y="2142720"/>
            <a:ext cx="827388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емарксистская философия в СССР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ожительная философия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ина как проблема онт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отальность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 охвате материала действительно-сти коррелирует с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стинн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жительная философия предстаёт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еория истины, опирающаяся на идею тотальност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«единого»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а исходит из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ервичного единства всего сущег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позволяющего сделать соизмеримыми, принципиально способными к соотнесению все дискретности действи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же за случайным необходимо видеть то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фон закономерно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по отношению к которому случайное только и может быть определено как таков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якая изменчивость апеллирует 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ождеств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с позиции которого только и возможна длительность изменяющего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якое непонимание вскрывает, по крайней мере,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озможность понима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ожительная философия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ина как проблема онт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жительная философия опирается на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разу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 смысл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отализирующей силы созна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прони-кающей собою рассудок и чувственность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креп-ляющей все формы и виды действительности в единое цел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Пониман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«уразумение») оказывается актом онтологически проясняющим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ближающим структуру сознания с бытие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действительно-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кольку сознание лежит не вне действительно-сти, а внутри неё, то 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делять его от действи-тельности иллюзорн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; разумное познание и по-нимание своей тотализацией снимает указанную иллюзию, обеспечивая свою истин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номенолог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еспредпосылочность фено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якое сущее (дискретность) может рассматри-ваться двояко: как элемент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едельной тоталь-ност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 как элемент одной из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бтотальносте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включённых в предельную тота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гда сущее рассматривается в вид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еномен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(т.е. элемента предельной тотальности), то пока-зателем этого будет ег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еспредпосылочность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т.е.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чевидность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е позволяющая нам помыс-лить феномен как-то инач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, наоборот, если нам удалось помыслить нечто в ег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туитивной очевидност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значит, мы конституировали его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еномен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номенолог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екция сущего в тоталь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отальное тесно связанно с интуитивно очевид-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очевидность, «проблемность» сущего не есть свойство его, сохраняющееся во всех «установ-ках», а есть следствие некоторых из этих «уста-новок»; проблемность какой-нибудь мысли не присуща самой мысли абсолютно, а есть резуль-тат нефиксации некоторых элементов, без кото-рых эта мысль и оказывается проблемн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троить своеобразную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проекцию» сущего в тотально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это и значит осуществить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εποχη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феноменологическую редукци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ы не столько «очищаем» сущее от чего-то, сколько проецируем его в плоскость тотального, получая феном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номенолог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еномен как состояние-переход между частью и цел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75760" y="1869840"/>
            <a:ext cx="858996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еномен – эт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стояние-переход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отношение) меж-ду частью и целым, между индивидуальным и то-таль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этом критерий очевидности перестаёт быть присущим только данному феномену, он является таковым лишь при апелляции к очевидности сово-купного цел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ам феномен предстаёт не изолированной, замкну-той в себе дискретностью, н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зло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к которому тя-нутся нити от всего цел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кую структуру имее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знак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кова феноменология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симпатического понимания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между людьми, выражающаяся в «уразумении» сказанного друг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ков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ерменевтическое пониман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предполагающее проникновение в «энтелехию» предмета, его «душу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Ф. Лосев (1893-198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49480" y="1798560"/>
            <a:ext cx="5289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тичный космос и современная наука (19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имени (19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ектика художественной формы (19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узыка как предмет логики (19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ектика числа у Плотина (192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платонизма у Аристотеля (192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черки античного символизма и мифологии (19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ектика мифа (19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античной эстетики (1963-199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тичная философия истории (197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стетика Возрождения (1978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л. Соловьёв и его время (199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4501800" y="1150920"/>
            <a:ext cx="401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Лосев (1)"/>
          <p:cNvPicPr/>
          <p:nvPr/>
        </p:nvPicPr>
        <p:blipFill>
          <a:blip r:embed="rId1"/>
          <a:stretch/>
        </p:blipFill>
        <p:spPr>
          <a:xfrm>
            <a:off x="358920" y="1798560"/>
            <a:ext cx="3379680" cy="43182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Ф. Лосев (1893-198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огико-смысловое конструир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логическое стано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мволиз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окатег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Эйдетическая» дефиниция миф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Конкретная» дефиниция миф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Мифы вокруг нас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огико-смысловое констру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основе философии Лосева –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тод логико-смыслового конструирования философского предм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ам философский предмет понимается в гуссер-лианском смысле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феномен сознания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эйд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719280" y="4138560"/>
            <a:ext cx="7916760" cy="1979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Эйдос есть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ивысшая мыслительная абстракция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,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оторая тем не менее дан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нкретно, нагляд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52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огико-смысловое констру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760" y="1330200"/>
            <a:ext cx="88059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Такая установка позволяет делать предметом философ-ского рассмотрения самые разные сферы реальност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мея в виду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смотрение их сущно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в этом её отличие о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эмпиризм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 не превращая их в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нят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чисто спекулятивную, отвле-чённо-мыслительную реальность), т.е. сохраняя их конкрет-ную природу (в этом её отличие о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твлечённой диалекти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днако метод Лосева отличается и от феноменологии Гуссерл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Гуссерлю, «усмотрение сущности» состоит исключитель-но в описании –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феноменологической дескрипции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мысло-вой структуры феномена как совокупности рядоположенных эле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осеву же смысловая структура феномена виделась не статическим собранием элементов, н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живым их единст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дачей философского метода он считал не просто дескри-бировать смысловую структуру в определённых категориях, но «одну категорию объяснить другой категорий, так, чтобы было видно, ка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дна категория порождает другую, и все вместе – друг друг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огико-смысловое констру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 – категориальная разработка не гегелевского понятия, а платоновско-гуссерлианского эйдоса, однако такой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йдос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не «перепись» составных частей смысла, 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719280" y="3598920"/>
            <a:ext cx="7916760" cy="2879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живое бытие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предмета,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онизанное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мысловыми энергиями,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дущими из его глубины и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кладывающимися в цельную живую картину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явленного лика сущности предмета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емарксистская философия в СССР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598920" y="1798560"/>
            <a:ext cx="316872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. Шпет (1879-1937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2878200" y="5397480"/>
            <a:ext cx="324144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. Лосев (1893-1988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Шпет (1)"/>
          <p:cNvPicPr/>
          <p:nvPr/>
        </p:nvPicPr>
        <p:blipFill>
          <a:blip r:embed="rId1"/>
          <a:stretch/>
        </p:blipFill>
        <p:spPr>
          <a:xfrm>
            <a:off x="684360" y="1916280"/>
            <a:ext cx="2442960" cy="3057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Лосев (3)"/>
          <p:cNvPicPr/>
          <p:nvPr/>
        </p:nvPicPr>
        <p:blipFill>
          <a:blip r:embed="rId2"/>
          <a:stretch/>
        </p:blipFill>
        <p:spPr>
          <a:xfrm>
            <a:off x="6227640" y="3284640"/>
            <a:ext cx="2162160" cy="305748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логическое стано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39760" y="1600200"/>
            <a:ext cx="86630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 эйдос – всё же объект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теллектуальной интуи-ц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«без какого-либо намёка на субстанциальность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 наделяется множеством зрительных характерис-тик, но речь всегда идёт об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умном» зр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то же до чувственной реальности – она остаётся для эйдоса всецел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оприрод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нако для диалектического метода «иная приро-да»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иалектическая противоположность данно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и обе природы немедленно вовлекаются в диалекти-ческий процесс, в «диалектику одного и иного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одно» логически предполагает (в терминах диалектики – «самополагает») «иное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оказывается с ним в отношении тождества и различия (диалектического «единства противоположностей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леднее же, будучи единством, есть, тем самым, некая новая цельность («диалектический синтез»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логическое стано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98160" indent="-3981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но, чтобы быть, должн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личаться от иног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Если нет иного, нет и одного. Стало быть одно полагает себя вместе со своим ин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160" indent="-3981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 одно не может быть только различно с иным. Оно, именно для того чтобы быть самим собой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ребуе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ного и, следов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льно, мыслится с ним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разу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Если оно только отлично от иного – оно не имеет никакой границы и, следовательно, оно не есть оно. Но оно – оно, и, значит, оно не только отлично от иного, но 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ождественн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с н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160" indent="-3981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нако как одно и иное тождественны? Это возможно только так, чт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дно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тановитс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тановлен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 ес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интез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бытия и не-бытия, одного и ин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логическое стано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10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6440" indent="-406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алее, как одно, соединившись со своим инобытием, дало становление, так становление, требуя, как и всё, для своего существования – своего инобытия и соединяясь с ним, даёт новую категорию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тавшег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ил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акт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который несёт на себе вышевыведенную триаду смыс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альнейшее сопряжение приводит к инаковост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й характеристике уже самый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ак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сам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тав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ше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; и, рассматривая все эти возможные см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ловые судьбы становящегося факта, т.е. соот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ся осмысленный факт с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г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нобытием, т.е. с его возможными воплощениями, мы получаем уже не просто смысл, или эйдос факта, н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ра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женны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смысл факта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раженную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его сущ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сть, ег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м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Имя есть тождество триадного эйдоса с его фактическим инобытием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логическое стано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39760" y="1600200"/>
            <a:ext cx="86630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исходящий таким образом диалектический пере-ход одного в двуединство одного и иного выходит за рамки формальной логики и обозначается осо-бым термином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алогического становл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йдос – самый благодарный объект для проведе-ния этого диалектического приём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 дан с такой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фигурностью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что, собственно, уже почти чувствен, как нельзя лучше приспособлен для воспроизведения в чувственном как в своей инаковос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 и в соединении со своим инобытием эйдос не утрачивает своих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мных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войство, и образовавшееся двуединство остаётся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мысловой картино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ученный таким образом философский предмет – смысловая картина, выраженная в телесно-чувст-венном, совершенное двуединство умного и чувст-венного содержания есть не что иное,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имво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мво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719280" y="1258920"/>
            <a:ext cx="7916760" cy="2158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имвол есть неразличимое тождество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бщего и особого,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деального и реального,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есконечного и конечного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7"/>
          <p:cNvSpPr/>
          <p:nvPr/>
        </p:nvSpPr>
        <p:spPr>
          <a:xfrm>
            <a:off x="142920" y="3130560"/>
            <a:ext cx="8853480" cy="2698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имвол есть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логически становящийся эйдос,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анный как своя собственная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ипостазированная инаковость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 рассмотренный как единичность в её соотнесении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 этой и, следовательно, со всякой инаковость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8"/>
          <p:cNvSpPr/>
          <p:nvPr/>
        </p:nvSpPr>
        <p:spPr>
          <a:xfrm>
            <a:off x="719280" y="5576760"/>
            <a:ext cx="7916760" cy="1079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имвол есть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эйдос, воспроизводимый на ин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окатег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иалектико-феноменологическое конструирование эйдосов и символов осуществляется посредством типовых формул, где по-разному комбинируются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пять первокатегорий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единичность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одно, сущее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око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движен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ождеств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азлич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Такое строительство из «унифицированных» блоков даёт лишь отвлечённую логическую схему, «скелет» предмета; всякий такой конструкт оказывается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719280" y="5468760"/>
            <a:ext cx="7916760" cy="1258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единичностью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, данной как алогическое становление </a:t>
            </a:r>
            <a:br>
              <a:rPr sz="2200"/>
            </a:br>
            <a:r>
              <a:rPr b="1" lang="ru-RU" sz="2200" spc="-1" strike="noStrike">
                <a:solidFill>
                  <a:srgbClr val="006600"/>
                </a:solidFill>
                <a:latin typeface="Arial"/>
              </a:rPr>
              <a:t>подвижного покоя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990000"/>
                </a:solidFill>
                <a:latin typeface="Arial"/>
              </a:rPr>
              <a:t>самотождественного различия</a:t>
            </a: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окатег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 его можно и нужно подвергнуть вторичному переосмыслению с точки зрения тех же первока-тегорий; тогда мы получим следующую группу категор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обственно </a:t>
            </a:r>
            <a:r>
              <a:rPr b="1" lang="ru-RU" sz="2200" spc="-1" strike="noStrike">
                <a:solidFill>
                  <a:srgbClr val="00ffff"/>
                </a:solidFill>
                <a:latin typeface="Arial"/>
              </a:rPr>
              <a:t>эйдос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ffff"/>
                </a:solidFill>
                <a:latin typeface="Arial"/>
              </a:rPr>
              <a:t>топос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ffff"/>
                </a:solidFill>
                <a:latin typeface="Arial"/>
              </a:rPr>
              <a:t>число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окатег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142920" y="1798560"/>
            <a:ext cx="2879640" cy="269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Эйдос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сть единичность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движного покоя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амотождественного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зличия,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анная как именно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диничност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3130560" y="1798560"/>
            <a:ext cx="2879640" cy="269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опос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сть единичность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движного покоя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амотождественного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зличия,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анная как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амотождественное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азличие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7"/>
          <p:cNvSpPr/>
          <p:nvPr/>
        </p:nvSpPr>
        <p:spPr>
          <a:xfrm>
            <a:off x="6116760" y="1798560"/>
            <a:ext cx="2879640" cy="269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Число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(«множество»)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сть единичность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движного покоя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амотождественного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зличия,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анная как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подвижной по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8"/>
          <p:cNvSpPr/>
          <p:nvPr/>
        </p:nvSpPr>
        <p:spPr>
          <a:xfrm>
            <a:off x="108000" y="4857840"/>
            <a:ext cx="295128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эйдосе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мы имеем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мысл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, как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которую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атегорию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9"/>
          <p:cNvSpPr/>
          <p:nvPr/>
        </p:nvSpPr>
        <p:spPr>
          <a:xfrm>
            <a:off x="3094200" y="4857840"/>
            <a:ext cx="295092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опосе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еред нами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сстилается некое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мное пространство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0"/>
          <p:cNvSpPr/>
          <p:nvPr/>
        </p:nvSpPr>
        <p:spPr>
          <a:xfrm>
            <a:off x="6081840" y="4857840"/>
            <a:ext cx="295092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числе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фиксируется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пециально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движность смысла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9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Эйдетическая» дефиниция ми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75760" y="1600200"/>
            <a:ext cx="85899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есть определённый момент или стадия конст-руирования эйдоса, точнее – последняя, завершаю-щая стадия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едел воплощённости эйдос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нако схожим образом определяется и символ, ко-торый есть предельная воплощённость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ле-чённость в и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личие мифа от символа состоит в том, что миф есть, кроме того, ещё и предельна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раженность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а она требует не просто воплощённости, н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оплощённости в живом и лично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этому в определении мифа участвует ещё одна категория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теллигенц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или (само)созн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1006560" y="5505480"/>
            <a:ext cx="7197480" cy="1258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ознание, интеллигенция есть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отнесённость смысла с самим собой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Эйдетическая» дефиниция ми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1690560" y="1978200"/>
            <a:ext cx="5757840" cy="1800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иф – эт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эйдос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,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анный как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нтеллигенция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1690560" y="4317840"/>
            <a:ext cx="5757840" cy="1800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иф есть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нтеллигенция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как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эйдос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. Шпет (1879-1937)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49480" y="1798560"/>
            <a:ext cx="5289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вление и смысл: Феноменология как основная наука и её проблемы (19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вый опыт логики исторических наук (К истории рационализма XVIII века) (19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как проблема логики (19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знание и его собственник (19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удрость или разум (19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рменевтика и её проблемы (19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кептик и его душа (19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черк развития русской философии (192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стетические фрагменты (1922-192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нутренняя форма слова (19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ведение в этническую психологию (19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4501800" y="1150920"/>
            <a:ext cx="401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Шпет (1)"/>
          <p:cNvPicPr/>
          <p:nvPr/>
        </p:nvPicPr>
        <p:blipFill>
          <a:blip r:embed="rId1"/>
          <a:stretch/>
        </p:blipFill>
        <p:spPr>
          <a:xfrm>
            <a:off x="358920" y="1798560"/>
            <a:ext cx="3450960" cy="431964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Конкретная» дефиниция ми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кольку специфика мифа в том, что он  «уже не есть эйдос, он – 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ыт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» (точнее – чувственная и эмпирическая реальность), то исследовать миф – это не столько описать эйдос мифа среди других эйдосов, сколько описать сам миф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вещь» среди других вещ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троение конкретной дефиниции мифа отлича-ется от эйдетического конструирования и следу-ет более традиционной процедур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следова-тельных отграничений мифа от смежных, близ-ких явлени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Конкретная» дефиниция ми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вымысе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о логически необходимая категория сознания и бы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идеальное быт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о жизненно ощущаемая и творимая вещественная реа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научное построен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о живое субъект-объектное взаимооб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метафизик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о чувственная действительность, хотя и отрешённая от обычного хода явл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схема и аллегор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о симв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поэз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о возведение изолированных и абстрактно выделенных вещей в интуитивно-инстинктивную сферу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Конкретная» дефиниция ми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ес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личностная форм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предполагающ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амосознан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лесность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ч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ес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стор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В истории различаются три сло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природно-вещественный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сами события и факты; это – действительность, ещё не просвещённая и не проработанная разумом, а, следовательно, строго говоря, ещё не действительност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бщие структур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сторического, концепции и схемы истории; это – действительность, уже осмысленная, но осмысленная извн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стория как сознающее самоё себ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; здесь она выступает ка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нтеллигенц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выражающая себ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ес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чуд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совпадение эмпирического бытия личности с её «идеальным заданием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Конкретная» дефиниция ми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5"/>
          <p:cNvSpPr/>
          <p:nvPr/>
        </p:nvSpPr>
        <p:spPr>
          <a:xfrm>
            <a:off x="2374920" y="2158920"/>
            <a:ext cx="4317840" cy="323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иф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сть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 словах данная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удесная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ичностная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стория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Мифы вокруг нас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– всепроникающая стихия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щая всюду в человеке и вокруг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 – прирождённый человеку и социуму (хотя и не единственный для них)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пособ видения и толкования себя и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этом, мифичность человеческого опыт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мманентн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а не привносима человеческой психи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Мифы вокруг нас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етлый миф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Правосла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ёмный миф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новоевропейское мировоззрение, господствующее, начиная с Возрождения, и включающ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ьютонианскую картину физического ми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те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оммунистический миф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тличается от новоевро-пейского мифа, прочно связанного с принципами и ценностями буржуазного об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о, что пролетарский миф усваивает себе едва ли не все лозунги буржуазного мифа (в особенно-сти – атеизм) есть следствие ег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последова-тельности и незрелост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1979640" y="1700280"/>
            <a:ext cx="5038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¿ Вопросы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" descr="conf_gozzoli_triumph_of_st_thomas_aquinas_averrhoes"/>
          <p:cNvPicPr/>
          <p:nvPr/>
        </p:nvPicPr>
        <p:blipFill>
          <a:blip r:embed="rId1"/>
          <a:stretch/>
        </p:blipFill>
        <p:spPr>
          <a:xfrm>
            <a:off x="2340000" y="4005360"/>
            <a:ext cx="4524480" cy="143964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. Шпет (1879-193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ложительная философ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жительная и отрицательн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отрицательной фило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коренённость в тота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флективность и интуи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ина как проблема онтолог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еномен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спредпосылочность фено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екция сущего в тоталь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еномен как состояние-переход между частью и цел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ожительн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Положительная и отрицательная философ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Organization Chart 7"/>
          <p:cNvGrpSpPr/>
          <p:nvPr/>
        </p:nvGrpSpPr>
        <p:grpSpPr>
          <a:xfrm>
            <a:off x="431640" y="1978200"/>
            <a:ext cx="8208360" cy="4463640"/>
            <a:chOff x="431640" y="1978200"/>
            <a:chExt cx="8208360" cy="4463640"/>
          </a:xfrm>
        </p:grpSpPr>
        <p:cxnSp>
          <p:nvCxnSpPr>
            <p:cNvPr id="69" name="_s1028"/>
            <p:cNvCxnSpPr>
              <a:stCxn id="70" idx="3"/>
              <a:endCxn id="71" idx="2"/>
            </p:cNvCxnSpPr>
            <p:nvPr/>
          </p:nvCxnSpPr>
          <p:spPr>
            <a:xfrm flipV="1">
              <a:off x="2670120" y="2946960"/>
              <a:ext cx="373680" cy="3300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2" name="_s1029"/>
            <p:cNvCxnSpPr>
              <a:stCxn id="73" idx="3"/>
              <a:endCxn id="71" idx="2"/>
            </p:cNvCxnSpPr>
            <p:nvPr/>
          </p:nvCxnSpPr>
          <p:spPr>
            <a:xfrm flipV="1">
              <a:off x="2670120" y="2946960"/>
              <a:ext cx="373680" cy="2718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4" name="_s1030"/>
            <p:cNvCxnSpPr>
              <a:stCxn id="75" idx="3"/>
              <a:endCxn id="71" idx="2"/>
            </p:cNvCxnSpPr>
            <p:nvPr/>
          </p:nvCxnSpPr>
          <p:spPr>
            <a:xfrm flipV="1">
              <a:off x="2670120" y="2947320"/>
              <a:ext cx="373680" cy="2136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6" name="_s1031"/>
            <p:cNvCxnSpPr>
              <a:stCxn id="77" idx="3"/>
              <a:endCxn id="71" idx="2"/>
            </p:cNvCxnSpPr>
            <p:nvPr/>
          </p:nvCxnSpPr>
          <p:spPr>
            <a:xfrm flipV="1">
              <a:off x="2670120" y="2946960"/>
              <a:ext cx="373680" cy="1554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8" name="_s1032"/>
            <p:cNvCxnSpPr>
              <a:stCxn id="79" idx="3"/>
              <a:endCxn id="71" idx="2"/>
            </p:cNvCxnSpPr>
            <p:nvPr/>
          </p:nvCxnSpPr>
          <p:spPr>
            <a:xfrm flipV="1">
              <a:off x="2670120" y="2946960"/>
              <a:ext cx="373680" cy="972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0" name="_s1033"/>
            <p:cNvCxnSpPr>
              <a:stCxn id="81" idx="3"/>
              <a:endCxn id="71" idx="2"/>
            </p:cNvCxnSpPr>
            <p:nvPr/>
          </p:nvCxnSpPr>
          <p:spPr>
            <a:xfrm flipV="1">
              <a:off x="2670120" y="2946960"/>
              <a:ext cx="373680" cy="389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2" name="_s1034"/>
            <p:cNvCxnSpPr>
              <a:stCxn id="83" idx="1"/>
              <a:endCxn id="84" idx="2"/>
            </p:cNvCxnSpPr>
            <p:nvPr/>
          </p:nvCxnSpPr>
          <p:spPr>
            <a:xfrm rot="10800000">
              <a:off x="6027840" y="2946960"/>
              <a:ext cx="373680" cy="2136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5" name="_s1035"/>
            <p:cNvCxnSpPr>
              <a:stCxn id="86" idx="1"/>
              <a:endCxn id="84" idx="2"/>
            </p:cNvCxnSpPr>
            <p:nvPr/>
          </p:nvCxnSpPr>
          <p:spPr>
            <a:xfrm rot="10800000">
              <a:off x="6027840" y="2946960"/>
              <a:ext cx="373680" cy="1554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7" name="_s1036"/>
            <p:cNvCxnSpPr>
              <a:stCxn id="88" idx="1"/>
              <a:endCxn id="84" idx="2"/>
            </p:cNvCxnSpPr>
            <p:nvPr/>
          </p:nvCxnSpPr>
          <p:spPr>
            <a:xfrm rot="10800000">
              <a:off x="6027840" y="2946960"/>
              <a:ext cx="373680" cy="972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9" name="_s1037"/>
            <p:cNvCxnSpPr>
              <a:stCxn id="90" idx="1"/>
              <a:endCxn id="84" idx="2"/>
            </p:cNvCxnSpPr>
            <p:nvPr/>
          </p:nvCxnSpPr>
          <p:spPr>
            <a:xfrm rot="10800000">
              <a:off x="6027840" y="2946960"/>
              <a:ext cx="373680" cy="389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1" name="_s1038"/>
            <p:cNvCxnSpPr>
              <a:stCxn id="84" idx="1"/>
              <a:endCxn id="92" idx="2"/>
            </p:cNvCxnSpPr>
            <p:nvPr/>
          </p:nvCxnSpPr>
          <p:spPr>
            <a:xfrm rot="10800000">
              <a:off x="4535280" y="2365560"/>
              <a:ext cx="373680" cy="388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3" name="_s1039"/>
            <p:cNvCxnSpPr>
              <a:stCxn id="71" idx="3"/>
              <a:endCxn id="92" idx="2"/>
            </p:cNvCxnSpPr>
            <p:nvPr/>
          </p:nvCxnSpPr>
          <p:spPr>
            <a:xfrm flipV="1">
              <a:off x="4162680" y="2365920"/>
              <a:ext cx="373680" cy="388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2" name="_s1040"/>
            <p:cNvSpPr/>
            <p:nvPr/>
          </p:nvSpPr>
          <p:spPr>
            <a:xfrm>
              <a:off x="3416400" y="197820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Arial"/>
                </a:rPr>
                <a:t>Философ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41"/>
            <p:cNvSpPr/>
            <p:nvPr/>
          </p:nvSpPr>
          <p:spPr>
            <a:xfrm>
              <a:off x="1923840" y="256032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оложительная философ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1042"/>
            <p:cNvSpPr/>
            <p:nvPr/>
          </p:nvSpPr>
          <p:spPr>
            <a:xfrm>
              <a:off x="4908960" y="256032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Отрицательная философ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1043"/>
            <p:cNvSpPr/>
            <p:nvPr/>
          </p:nvSpPr>
          <p:spPr>
            <a:xfrm>
              <a:off x="6401520" y="314280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Протаго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1044"/>
            <p:cNvSpPr/>
            <p:nvPr/>
          </p:nvSpPr>
          <p:spPr>
            <a:xfrm>
              <a:off x="6401520" y="372528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Лок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1045"/>
            <p:cNvSpPr/>
            <p:nvPr/>
          </p:nvSpPr>
          <p:spPr>
            <a:xfrm>
              <a:off x="6401520" y="430776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Кондилья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1046"/>
            <p:cNvSpPr/>
            <p:nvPr/>
          </p:nvSpPr>
          <p:spPr>
            <a:xfrm>
              <a:off x="6401520" y="489024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Кан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1047"/>
            <p:cNvSpPr/>
            <p:nvPr/>
          </p:nvSpPr>
          <p:spPr>
            <a:xfrm>
              <a:off x="431640" y="314280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Плато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1048"/>
            <p:cNvSpPr/>
            <p:nvPr/>
          </p:nvSpPr>
          <p:spPr>
            <a:xfrm>
              <a:off x="431640" y="372528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Плоти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049"/>
            <p:cNvSpPr/>
            <p:nvPr/>
          </p:nvSpPr>
          <p:spPr>
            <a:xfrm>
              <a:off x="434520" y="4307760"/>
              <a:ext cx="223560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Декар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50"/>
            <p:cNvSpPr/>
            <p:nvPr/>
          </p:nvSpPr>
          <p:spPr>
            <a:xfrm>
              <a:off x="431640" y="489024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Спиноз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51"/>
            <p:cNvSpPr/>
            <p:nvPr/>
          </p:nvSpPr>
          <p:spPr>
            <a:xfrm>
              <a:off x="431640" y="5472720"/>
              <a:ext cx="2238480" cy="387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Лейбни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052"/>
            <p:cNvSpPr/>
            <p:nvPr/>
          </p:nvSpPr>
          <p:spPr>
            <a:xfrm>
              <a:off x="431640" y="605376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Гегел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ожительн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отрицательной фило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760" y="1456920"/>
            <a:ext cx="880596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 точки зрения отрицательной философии,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убъект и объект разделены пропастью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действительность же понимается либо как явление вещи в себе, либо как акт субъ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тика истины и процесса познания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граничивается рамками теории позна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; сама истина понимается не как имма-нентное, но ка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рансцендентное согласован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между сужде-нием и вещью в себе, лежащей за пределами действи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связи с этой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етерономностью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озникает дилемма: или позна-ние согласуется с вещами, или вещи – с познанием (в положи-тельной философии даётся третье решение – самосогласова-ние в пределах единой действительно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обходимость имеет своим источником не порядок и связи в предмете, н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бщеобязательность сужд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в конечном итоге – субъекта, утверждающего су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тика истинного, как ограниченная только рамками су-бъекта, предполагает строгое ограничение области истинного, за границами которой располагается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иррациональное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; в итоге развёртывание процесса познания не только не приближает, но всё более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даляет понятия от действительно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сближая их с идеалами прагматически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ожительная философия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коренённость в тота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жительная философия исходит из возмож-ности обоснования всякой предметности, она ве-рит в доказательность, в способнос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дведе-ния всего сущего под некоторое основание, пре-вышающее обосновывае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 основание переходит в конечном итоге в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едельную полноту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действительность: всё оказываетс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коренённым в тотальност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совокупной действительности, выступающей единым и единственным основанием всего сущ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ожительная философия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флективность и интуи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5760" y="1600200"/>
            <a:ext cx="858996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шение проблемы действительности (т.е. пробле-мы положительного обоснования всего сущего), как и средства этого решения, есть также части дейст-вительности, в связи с чем положительная филосо-фия не может не бы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ефлектирующей в себя нау-ко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полагающей в качестве объектов своего об-основания сами осн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ходя этот путь до конца, положительная фило-софия может остановиться только н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туициях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непосредственно очевидных началах, предшеству-ющих всякому теоретическому зн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кусство движения в материале действительно-сти, при котором мы не выходим из интуитивного слоя, но движемся от одной непосредственной оче-видности к другой, – это и есть искусство методиче-ского проведения идей положительной философ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ожительная философия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ина как проблема онт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6120" y="1600200"/>
            <a:ext cx="866304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блема истины – это проблема всей действитель-тельности, 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только области зна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как полагает отрицательная философ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положительной философии оказывается невоз-можным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ядоположное рассмотрение реального и иллюзорног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так как нет ничего, кроме реальной действи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ллюзия возможно только внутри самой действи-тельности: иллюзорным оказываетс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содержа-ние иллюз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а лиш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верные соотноше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его с другими областями действи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1438200" y="5468760"/>
            <a:ext cx="6478560" cy="1143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сё истинн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 своём месте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 ложн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 месте чуж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5T07:02:41Z</dcterms:created>
  <dc:creator>Николай Бирюков / Nikolai Biryukov</dc:creator>
  <dc:description>Версия мая 2004 г.</dc:description>
  <dc:language>en-US</dc:language>
  <cp:lastModifiedBy>LEGION</cp:lastModifiedBy>
  <dcterms:modified xsi:type="dcterms:W3CDTF">2014-11-11T10:11:35Z</dcterms:modified>
  <cp:revision>36</cp:revision>
  <dc:subject>История русский философии - Лекция 15</dc:subject>
  <dc:title>Немарксистская философия в СССР</dc:title>
</cp:coreProperties>
</file>